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99326"/>
        <c:axId val="85502143"/>
      </c:barChart>
      <c:catAx>
        <c:axId val="49999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02143"/>
        <c:crosses val="autoZero"/>
        <c:auto val="1"/>
        <c:lblAlgn val="ctr"/>
        <c:lblOffset val="100"/>
        <c:noMultiLvlLbl val="0"/>
      </c:catAx>
      <c:valAx>
        <c:axId val="85502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99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DFF-E319-4E3C-8BF7-3E5FD750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46C-F3F9-4DA2-9176-6DA4DE73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8B2-EAF2-4002-8102-3C75D0B5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132-9B16-4C63-B90D-578EA3FF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670-2434-4FBE-9C52-D3AD4745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4B6-9B04-493F-9280-062589D4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B00-DCC8-44AB-8F18-46E0048B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DA0-2F2D-45DF-A475-771E0649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1AE-E83E-4AD4-B82A-0A2D2B09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D74-85AC-4AD0-8DD9-C7FC4C93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082-E0EE-44C4-BC54-80F8CDCB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8A8-0042-47D3-893F-C1DC0B28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894CF-1C79-453B-994E-2652BB5B6F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