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247966"/>
        <c:axId val="36329234"/>
      </c:barChart>
      <c:catAx>
        <c:axId val="86247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29234"/>
        <c:crosses val="autoZero"/>
        <c:auto val="1"/>
        <c:lblAlgn val="ctr"/>
        <c:lblOffset val="100"/>
        <c:noMultiLvlLbl val="0"/>
      </c:catAx>
      <c:valAx>
        <c:axId val="363292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47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E96-6917-4203-80F0-25AD8798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FD4-C884-44DE-947F-38E4BB1A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5D2-DED0-4AEC-A21F-73D222D4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96E-D3E0-4091-8F94-457BE85F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5CC-2171-4C32-8BC8-F5CDD352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F12-E73C-4372-85F2-4D14D64A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E0A-AF86-4246-A4E6-872C2DB5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F17A-4444-40F7-94E8-CAAF05EB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9B4A-39CF-4DDF-8421-6E19BC98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C9FA-BC32-482C-A143-C2A038A6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ABA-9BF3-46B0-8CB7-E043FF43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BEC0-9FCC-453B-8B3F-2CF235DA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91129-0836-4775-9023-4E5E6D7EA1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