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59974"/>
        <c:axId val="57401867"/>
      </c:barChart>
      <c:catAx>
        <c:axId val="87359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01867"/>
        <c:crosses val="autoZero"/>
        <c:auto val="1"/>
        <c:lblAlgn val="ctr"/>
        <c:lblOffset val="100"/>
        <c:noMultiLvlLbl val="0"/>
      </c:catAx>
      <c:valAx>
        <c:axId val="57401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59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47B-35C4-48A0-B89C-B26493E1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EAC-3105-4D33-B9ED-5F61CA61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919-EE14-4C04-910D-26836C45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69B-AA5E-44AF-86B0-AD0CA0C6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77D-E486-4FBA-8094-FEB50E4B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907-F016-480C-97C9-9B0460BB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155-0DCE-475D-8BB1-C51DE312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CFF-845C-4C46-BA61-BEFDE358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515-FF28-47E2-BA2B-471F8644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1D5-93F0-47BC-A35F-EE485C6E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D73-BC0F-4436-B015-BB61FF83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BED-2C65-4CF8-910C-461D3307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8B7EC-D38C-4D9C-83C1-5870493EA4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