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50702"/>
        <c:axId val="45763608"/>
      </c:barChart>
      <c:catAx>
        <c:axId val="94050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63608"/>
        <c:crosses val="autoZero"/>
        <c:auto val="1"/>
        <c:lblAlgn val="ctr"/>
        <c:lblOffset val="100"/>
        <c:noMultiLvlLbl val="0"/>
      </c:catAx>
      <c:valAx>
        <c:axId val="45763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50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B34-3BA7-47BB-A1D1-21F10BD0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C68-667D-477F-8B9F-81AA9B30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8AB-2321-449F-8486-965A143C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04A-A9AF-4A9B-84E6-26DFE6D1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C3E-C0C0-4D33-B2D5-EADF19F8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18C-F5BE-48A3-83D4-89DFC0CB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1C9-3497-4432-ABDC-F4040630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740-506D-4305-8E51-304081C2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DAE-8CD2-4A8F-8A9D-7116930A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963-BA9E-4D4E-9AF3-9CC121B7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2B7-9991-4A66-BB80-21174902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2F0-F69D-4D2B-8A7D-E071E777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100E0-EF34-4177-9DF0-D3452C52FC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