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30831"/>
        <c:axId val="98264071"/>
      </c:barChart>
      <c:catAx>
        <c:axId val="10330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64071"/>
        <c:crosses val="autoZero"/>
        <c:auto val="1"/>
        <c:lblAlgn val="ctr"/>
        <c:lblOffset val="100"/>
        <c:noMultiLvlLbl val="0"/>
      </c:catAx>
      <c:valAx>
        <c:axId val="98264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30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B45-A19A-4397-8EF6-2441707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B13-0917-4D9F-8470-A21273F9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66B-C3BF-4CEE-A3FF-BA58ECF8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327-9FEA-4441-B877-538267C6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606-4284-469F-BC9E-39EDC75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1DB-10F1-483F-AB34-96D1258B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B48-CA31-40E9-9A66-BEEB547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29D-D364-4DE6-8F33-1A0243C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159-6CBB-4B30-B9BA-BE8B6B6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F74-E26E-41E2-A56E-E184D66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466-3221-440B-BA2C-5999534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46E-3416-4A76-AA14-567BDB3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3E102-B48F-4C5E-9653-9D4E9F8BA6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