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50452"/>
        <c:axId val="83496902"/>
      </c:barChart>
      <c:catAx>
        <c:axId val="430504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96902"/>
        <c:crosses val="autoZero"/>
        <c:auto val="1"/>
        <c:lblAlgn val="ctr"/>
        <c:lblOffset val="100"/>
        <c:noMultiLvlLbl val="0"/>
      </c:catAx>
      <c:valAx>
        <c:axId val="83496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504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73F8-2CF6-45FE-8D69-9A690D09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DF59-4A0E-414D-A07D-5485087C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8E57-D1E8-44BD-B43F-53C7637E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1C99-54ED-470B-804C-8E066738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65FB-DEF4-4D67-B8DB-5DBF1FA3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BBF1-B00D-4D40-95EB-B410393B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535-2D2B-4612-8480-9E95A380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7E5C-4175-4B82-8470-0708B0BF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C82-27F9-49ED-A842-2FD4527D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99C8-3ABB-4C44-B855-9826C9DF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D32-2C7E-47E1-AC6D-876FE429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35A-8331-4388-AA07-C12D3B7A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1DB1F-4164-438B-BD9E-96519DA99C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